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8.gif" ContentType="image/gif"/>
  <Override PartName="/ppt/media/image36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3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7.png" ContentType="image/png"/>
  <Override PartName="/ppt/media/image32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39F7-EE92-4A1B-BAE9-D2CFDF1A2BEE}" type="slidenum"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FBB4-9FD7-4CEB-B8E8-8D26595A01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5600" y="698400"/>
            <a:ext cx="4548240" cy="34099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figure shows the average number of anti-hypertensive agents per patient that were required to reach the goal blood pressures (defined as DBP = diastolic blood pressure or MAP = mean arterial pressure) specified by protocol in each of 4 randomi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d, controlled clinical trials of hypertensive patients, some of them were diabetic (HOT = Hypertension Optimal Treatment Study and MDRD = Modification of Diet in Renal Disease Study) or all (ABCD = Appropriate Blood Pressure Control in Diabetes Study and UKPDS = UK Prospective Diabetes Study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t should be mentioned that the average blood pressure achieved by patients in the trials was very close to, or even slightly below, the goal blood pressure specified by the trial´s protoc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achieve a goal blood pressure of &lt;85 mmHg diastolic, the average number of anti-hypertensive agents per patient was more than 2.5 in each of the 4 controlled clinical trials included in this table.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Lazarus JM et al. Hypertension 1997; 29(2): 641-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Estacio RO et al. N Engl J Med 1998; 338(10): 645-6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Hansson L et al. Lancet 1998; 351(9118): 1755-176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. UK Prospective Diabetes Study Group. BMJ 1998; 317(7160): 703-7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3"/>
          <p:cNvSpPr/>
          <p:nvPr/>
        </p:nvSpPr>
        <p:spPr>
          <a:xfrm>
            <a:off x="228600" y="1890720"/>
            <a:ext cx="8709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762120" y="5562720"/>
            <a:ext cx="7696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pidemiolog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rcRect l="19003" t="20487" r="23917" b="16528"/>
          <a:stretch/>
        </p:blipFill>
        <p:spPr>
          <a:xfrm>
            <a:off x="1905120" y="2209680"/>
            <a:ext cx="5199120" cy="37782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506520" cy="28656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709452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Arial"/>
              </a:rPr>
              <a:t>Serbia = 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2680" y="6172200"/>
            <a:ext cx="815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on the health of residents of the Republic of Serbia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Public Health of Serbia</a:t>
            </a:r>
            <a:r>
              <a:rPr b="0" lang="sr-Latn-R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Dr Milan Jovanović Batu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233280" y="1752480"/>
            <a:ext cx="854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 :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t residents with hypertension and potential hypertension according to age groups, Serbia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124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tiological classifica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rganization Chart 5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nd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39880" y="1981080"/>
            <a:ext cx="380988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Essent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Un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accounts for 90% of al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It typically occurs in age of 40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Genetic pre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                ●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70-80% of patients have positive family anam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       ● </a:t>
            </a: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 certain 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802040" y="1981080"/>
            <a:ext cx="3810240" cy="4724640"/>
          </a:xfrm>
          <a:prstGeom prst="rect">
            <a:avLst/>
          </a:prstGeom>
          <a:solidFill>
            <a:srgbClr val="ffcfa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Secondary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Known et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factors affecting stroke volume, systemic vascular resistance, and blood pressure may be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damag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imarily with the development of the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Volume – kidney disease and poor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ngiotensin II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nal artery stenosis and renal regulation of hypoperfusion despite hypovol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ldosterone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 hyperaldosteronism with poor regulation of aldosterone production and sodium 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renergic tone – pheochromocytoma with  excessive production of catechola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100" spc="-1" strike="noStrike">
                <a:solidFill>
                  <a:srgbClr val="000000"/>
                </a:solidFill>
                <a:latin typeface="Arial"/>
              </a:rPr>
              <a:t>2007, Scott Gillard, 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essential is essential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38280" y="2484360"/>
            <a:ext cx="67057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rimary, essential or idiopat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генск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-remedi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stero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d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drom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ary disorder of sodium reabsorption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otensinogen ge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disord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iloride-sensitive epithelial sodium channel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ic-oxide pro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duc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bet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uni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signal transduc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gene insertion/de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40840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752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al parenchym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cute glomerulo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Chronic nephrit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Polycystic disease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Diabetic nephropathy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Hydronephrosis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novascular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renal vascul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Renin-producing tumor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Primary sodium retention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ddle's syndrome, Gordon's syndrome)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062000"/>
            <a:ext cx="7696080" cy="3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44756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ologic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Acromegaly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thyroidism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Hyperthyroidism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Hypercalcemia (hyperparathyroidism)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arterial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ushing's syndrome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ldosteronis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Congenital adrenal hyperplasia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"mineralocorticoid excess"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Medulla pheochromocytoma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Extraadrenal chromaffin tumor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Carcinoid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Exogenous hormone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ogen, minerals and glucocorticoids, sympathomimetics, tyramine-rich foods, MAO inhibi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arctation of the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R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urological diseas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intracranial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ranial tumors and hemorr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Encephal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Respiratory acidosis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Quadriplegia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ute stress (and surgical traum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genic hyper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Hypoglycemi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Pancreatitis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, postoperative period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rug- or chemically-induced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AI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ympathomimetic amines (phenylpropanolamin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Estrogens and estrogen analogues (oral contraceptives and hormone replacement therapy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ticoster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ylxanthines (theophylline, caffeine, theobrom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ospo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poie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cyclidine (hallucinogen "angel du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Herbal ecstasy" (and other "ephedra-containing substances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upt discontinuation of certain medications (beta blockers, alpha agonists, opiates, calcium antagoni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79080"/>
            <a:ext cx="784872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rren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rganization Chart 10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4048200" cy="2170080"/>
          </a:xfrm>
          <a:prstGeom prst="rect">
            <a:avLst/>
          </a:prstGeom>
          <a:ln w="0">
            <a:noFill/>
          </a:ln>
        </p:spPr>
      </p:pic>
      <p:pic>
        <p:nvPicPr>
          <p:cNvPr id="109" name="Organization Chart 19" descr=""/>
          <p:cNvPicPr/>
          <p:nvPr/>
        </p:nvPicPr>
        <p:blipFill>
          <a:blip r:embed="rId2"/>
          <a:stretch/>
        </p:blipFill>
        <p:spPr>
          <a:xfrm>
            <a:off x="4803840" y="2048040"/>
            <a:ext cx="4041720" cy="2163600"/>
          </a:xfrm>
          <a:prstGeom prst="rect">
            <a:avLst/>
          </a:prstGeom>
          <a:ln w="0">
            <a:noFill/>
          </a:ln>
        </p:spPr>
      </p:pic>
      <p:pic>
        <p:nvPicPr>
          <p:cNvPr id="110" name="Organization Chart 28" descr=""/>
          <p:cNvPicPr/>
          <p:nvPr/>
        </p:nvPicPr>
        <p:blipFill>
          <a:blip r:embed="rId3"/>
          <a:stretch/>
        </p:blipFill>
        <p:spPr>
          <a:xfrm>
            <a:off x="298440" y="4694400"/>
            <a:ext cx="4041720" cy="2170080"/>
          </a:xfrm>
          <a:prstGeom prst="rect">
            <a:avLst/>
          </a:prstGeom>
          <a:ln w="0">
            <a:noFill/>
          </a:ln>
        </p:spPr>
      </p:pic>
      <p:pic>
        <p:nvPicPr>
          <p:cNvPr id="111" name="Organization Chart 51" descr=""/>
          <p:cNvPicPr/>
          <p:nvPr/>
        </p:nvPicPr>
        <p:blipFill>
          <a:blip r:embed="rId4"/>
          <a:stretch/>
        </p:blipFill>
        <p:spPr>
          <a:xfrm>
            <a:off x="4608360" y="4595760"/>
            <a:ext cx="4542120" cy="2268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53352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807080" y="19810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3520" y="4603680"/>
            <a:ext cx="6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83080" y="4167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ESC"/>
          <p:cNvPicPr/>
          <p:nvPr/>
        </p:nvPicPr>
        <p:blipFill>
          <a:blip r:embed="rId1"/>
          <a:stretch/>
        </p:blipFill>
        <p:spPr>
          <a:xfrm>
            <a:off x="7723080" y="0"/>
            <a:ext cx="1420920" cy="1298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according to degree of severity (DO NOT LEARN THE VALUES FROM THE TABLE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2133720"/>
          <a:ext cx="8915400" cy="3657600"/>
        </p:xfrm>
        <a:graphic>
          <a:graphicData uri="http://schemas.openxmlformats.org/drawingml/2006/table">
            <a:tbl>
              <a:tblPr/>
              <a:tblGrid>
                <a:gridCol w="5126040"/>
                <a:gridCol w="1485720"/>
                <a:gridCol w="817560"/>
                <a:gridCol w="1486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olic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sto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Hg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(mmH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n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-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egree (mild hypertens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-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degree (moderat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-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degree (severe hyperten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ed systolic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119" name="Title 1"/>
          <p:cNvSpPr/>
          <p:nvPr/>
        </p:nvSpPr>
        <p:spPr>
          <a:xfrm>
            <a:off x="152280" y="6172200"/>
            <a:ext cx="8763120" cy="380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ystolic or diastolic pressure belong to different categories, the heavier one is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sure that blood exerts on the walls of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individua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pends on age, gender, eth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timal, normal and High-normal category of 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Violeta\Documents\IMG_8030.jpg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ent kill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usually asymptomatic for a long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often discovered during systematic examinations or the first manifestation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aints: Occipital headache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ni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aints that are a manifestation of diseases that arose as a consequence of compl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 hypertension app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 clinical manifestation of secondary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228708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ochromocytoma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, frequent blood pressure spikes, nausea, vomiting, facial flushing... increased blood pressure during administration of beta-blockers, or introduction to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's syndrome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hingoid app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hypertension 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arterial hypertension or creatinine spike after ACE inhibitor use, hematuria, evidence of kidney injury o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3505320" y="6400800"/>
            <a:ext cx="2133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Srdjan\Desktop\Picture2.jpg"/>
          <p:cNvPicPr/>
          <p:nvPr/>
        </p:nvPicPr>
        <p:blipFill>
          <a:blip r:embed="rId1"/>
          <a:srcRect l="-174" t="23935" r="-3220" b="30675"/>
          <a:stretch/>
        </p:blipFill>
        <p:spPr>
          <a:xfrm>
            <a:off x="39600" y="2662200"/>
            <a:ext cx="9398160" cy="2503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6858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-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514600" y="16765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55440" y="4952880"/>
            <a:ext cx="23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t ventricular hypertr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rt</a:t>
            </a: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onary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2514600" y="49528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Aneury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Peripheral arteri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952880" y="49528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Kidney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7467480" y="4952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Arial"/>
              </a:rPr>
              <a:t>Str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84040" y="6153120"/>
            <a:ext cx="88599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 frequency of complications directly depends on the value of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nifestat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with the development of 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long tim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PTOMATIC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dizziness, visual and hearing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rt problems: </a:t>
            </a: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ythm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Kidney problem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ia, polyuria, dys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c, lower back pain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at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-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371600" y="1860480"/>
            <a:ext cx="6553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namnesis / objective finding /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608200" y="2436840"/>
            <a:ext cx="37339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eart and lungs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525840" y="2921040"/>
            <a:ext cx="18288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165400" y="3467160"/>
            <a:ext cx="44956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chocardiography and Dop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2344680" y="4067280"/>
            <a:ext cx="419112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wenty-four hour Holter monitoring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984240" y="4665600"/>
            <a:ext cx="762624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pid status, glycemia, urea, creatinine, K, Na, Ca, urin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925640" y="5238720"/>
            <a:ext cx="5029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further examination -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419040" y="5762520"/>
            <a:ext cx="845820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Abdominal ultrasound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renal artery Doppler ultrasoun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fundos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492120" y="6226200"/>
            <a:ext cx="7966080" cy="398880"/>
          </a:xfrm>
          <a:prstGeom prst="rect">
            <a:avLst/>
          </a:prstGeom>
          <a:solidFill>
            <a:srgbClr val="ffdd7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neurological examination, CT, NMR, aortography / renovas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gnosis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521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ligatory diagnostic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ic diagnostic procedures for assessing the complexity of the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card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funct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2000"/>
            <a:ext cx="87631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rther diagnostic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828440"/>
            <a:ext cx="87631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Cirilica"/>
              </a:rPr>
              <a:t>1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additional testing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1 and 2 in the absence of clinical manif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invasive screening test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younger than 20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verified vascular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sive diagnostic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ing or malignant arterial hyper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icious anomaly of abdominal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d by the use of ACE inhibitors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ccidentally detected asymmetry in kidney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times laboratory parameters also determine the recommended therapeutic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97120"/>
            <a:ext cx="8458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developed complications on target orga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U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undoscopic: flame haemorrhages, papiloed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idney da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, despite the use of 4 drugs (of which at least 1 is a diuretic), the desired values have not been ach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resistant hypert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is not a reflection of resistance, but non-adherence to treatment measures by patients (or do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gulatory mechanism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oreflexes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carotid arterie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arch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motor cent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olinergic and adrenergic nerve fibers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egulation of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118908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goal (ANA and 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381880" cy="4481640"/>
        </p:xfrm>
        <a:graphic>
          <a:graphicData uri="http://schemas.openxmlformats.org/drawingml/2006/table">
            <a:tbl>
              <a:tblPr/>
              <a:tblGrid>
                <a:gridCol w="5410080"/>
                <a:gridCol w="2971800"/>
              </a:tblGrid>
              <a:tr h="1006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the therapeutic goal in hypert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ing </a:t>
                      </a:r>
                      <a:r>
                        <a:rPr b="1" lang="sr-Latn-R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lood pressure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s below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/90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oung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igns of CV complication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ab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930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enal parenchymal dis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teinur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r>
                        <a:rPr b="1" lang="sr-Latn-RS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solated systolic hypertension in the elderly 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 of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4d1"/>
                    </a:solidFill>
                  </a:tcPr>
                </a:tc>
              </a:tr>
            </a:tbl>
          </a:graphicData>
        </a:graphic>
      </p:graphicFrame>
      <p:pic>
        <p:nvPicPr>
          <p:cNvPr id="157" name="Picture 2" descr="D:\Srdjan\Goran\Predavanja\PPT\Slicice za ppt\4578127.jpg"/>
          <p:cNvPicPr/>
          <p:nvPr/>
        </p:nvPicPr>
        <p:blipFill>
          <a:blip r:embed="rId1"/>
          <a:stretch/>
        </p:blipFill>
        <p:spPr>
          <a:xfrm>
            <a:off x="457200" y="1994040"/>
            <a:ext cx="12477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mmended combinations of medicaments ESH/ESC recommendations 2007...20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Srdjan\Desktop\Picture1јкхугуи.jpg"/>
          <p:cNvPicPr/>
          <p:nvPr/>
        </p:nvPicPr>
        <p:blipFill>
          <a:blip r:embed="rId1"/>
          <a:srcRect l="31953" t="26374" r="27373" b="12722"/>
          <a:stretch/>
        </p:blipFill>
        <p:spPr>
          <a:xfrm>
            <a:off x="3048120" y="2895480"/>
            <a:ext cx="3558960" cy="3221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3505320" y="2394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Thiazide diur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255680" y="3586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1255680" y="506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lpha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2514600" y="609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e-converting enzyme (ACE) 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6477120" y="4800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Ca channel blo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6477120" y="31240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ngiotensin receptor blockers (AR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C:\Users\Srdjan\Desktop\Picture1јкхугуи.jpg"/>
          <p:cNvPicPr/>
          <p:nvPr/>
        </p:nvPicPr>
        <p:blipFill>
          <a:blip r:embed="rId2"/>
          <a:srcRect l="81454" t="1932" r="1805" b="72202"/>
          <a:stretch/>
        </p:blipFill>
        <p:spPr>
          <a:xfrm>
            <a:off x="7421400" y="0"/>
            <a:ext cx="117648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Users\Srdjan\Desktop\Picture1јкхугуи.jpg"/>
          <p:cNvPicPr/>
          <p:nvPr/>
        </p:nvPicPr>
        <p:blipFill>
          <a:blip r:embed="rId3"/>
          <a:srcRect l="0" t="77307" r="78033" b="0"/>
          <a:stretch/>
        </p:blipFill>
        <p:spPr>
          <a:xfrm>
            <a:off x="0" y="5599080"/>
            <a:ext cx="2011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2013120"/>
          <a:ext cx="8686800" cy="4768560"/>
        </p:xfrm>
        <a:graphic>
          <a:graphicData uri="http://schemas.openxmlformats.org/drawingml/2006/table">
            <a:tbl>
              <a:tblPr/>
              <a:tblGrid>
                <a:gridCol w="2895480"/>
                <a:gridCol w="57913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ine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mpanying diseases that favor their use (convincing indications</a:t>
                      </a:r>
                      <a:r>
                        <a:rPr b="1" lang="sr-Latn-R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thiaz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3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p diure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failure,  heart fail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 - aldoster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 after myocardial infar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after myocardial infarction, pregnancy, tachyarrhythm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dihydropyrid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atien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solated systolic hypertension, peripheral arter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l diseas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therosclerosis of carotid arteries, pregna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hannel blockers -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apamil, dilti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na pectoris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herosclerosis of carotid arteries,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raventricular tachycar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60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Е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 failure, left ventricular dysfunction, after acute myocardial infarction, non-diabetic nephropathy, diabetic nephropathy (type 1), proteinu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  <a:tr h="603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iotensin II receptor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ic nephropathy (type 2), diabetic microalbuminuria, proteinuria, left ventricular hypertrophy, cough when using ACE inhibi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35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pha bloc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prostate hyperplasia, hyperlipidem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faf"/>
                    </a:solidFill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ications for prescribing the main groups of antihypertensive </a:t>
            </a: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special entities of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2287440"/>
          <a:ext cx="8229600" cy="3565800"/>
        </p:xfrm>
        <a:graphic>
          <a:graphicData uri="http://schemas.openxmlformats.org/drawingml/2006/table">
            <a:tbl>
              <a:tblPr/>
              <a:tblGrid>
                <a:gridCol w="2438280"/>
                <a:gridCol w="579132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ochromocyt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tol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sibenz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ovascular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Ca channel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ateral stenos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do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fe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dicated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AC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uliarities of treatment of secondary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hypertension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8240" y="2287080"/>
            <a:ext cx="84582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nal parenchymal dis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E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RB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channel blockers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 and beta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ascular diseases: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channel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ION FOR ACE INHIBITORS IS BILATERAL STENOSIS OF THE RENAL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17520"/>
            <a:ext cx="9144000" cy="5335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JNC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for the treatment of </a:t>
            </a:r>
            <a:r>
              <a:rPr b="0" lang="sr-Latn-RS" sz="2400" spc="-1" strike="noStrike">
                <a:solidFill>
                  <a:srgbClr val="ffffff"/>
                </a:solidFill>
                <a:latin typeface="Arial"/>
              </a:rPr>
              <a:t>arter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1"/>
          <p:cNvSpPr/>
          <p:nvPr/>
        </p:nvSpPr>
        <p:spPr>
          <a:xfrm>
            <a:off x="0" y="175104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No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1600200" y="213192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2971800" y="2131920"/>
            <a:ext cx="1905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rehyper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41008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7391520" y="213192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0" y="3122640"/>
            <a:ext cx="1523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3048120" y="312264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ange of lif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5105520" y="3351240"/>
            <a:ext cx="2133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azides, ACEIs, ARBs, BBs, CCBs or combinations may be consid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tle 1"/>
          <p:cNvSpPr/>
          <p:nvPr/>
        </p:nvSpPr>
        <p:spPr>
          <a:xfrm>
            <a:off x="7315200" y="335124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ination of diuretics and ACEI, ARB, BB or 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0" y="251316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S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2817720"/>
            <a:ext cx="1219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BP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tle 1"/>
          <p:cNvSpPr/>
          <p:nvPr/>
        </p:nvSpPr>
        <p:spPr>
          <a:xfrm>
            <a:off x="15238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5238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600200" y="312264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320040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 - 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itle 1"/>
          <p:cNvSpPr/>
          <p:nvPr/>
        </p:nvSpPr>
        <p:spPr>
          <a:xfrm>
            <a:off x="320040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 - 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54100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0 -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tle 1"/>
          <p:cNvSpPr/>
          <p:nvPr/>
        </p:nvSpPr>
        <p:spPr>
          <a:xfrm>
            <a:off x="54100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0 -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7467480" y="251316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7467480" y="281772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0" y="3960720"/>
            <a:ext cx="9144000" cy="304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700" spc="-1" strike="noStrike">
                <a:solidFill>
                  <a:srgbClr val="ffffff"/>
                </a:solidFill>
                <a:latin typeface="Arial"/>
              </a:rPr>
              <a:t>With convincing ind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1"/>
          <p:cNvSpPr/>
          <p:nvPr/>
        </p:nvSpPr>
        <p:spPr>
          <a:xfrm>
            <a:off x="0" y="4570560"/>
            <a:ext cx="2514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48751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After myocardial infar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1"/>
          <p:cNvSpPr/>
          <p:nvPr/>
        </p:nvSpPr>
        <p:spPr>
          <a:xfrm>
            <a:off x="0" y="518004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High CV ri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1"/>
          <p:cNvSpPr/>
          <p:nvPr/>
        </p:nvSpPr>
        <p:spPr>
          <a:xfrm>
            <a:off x="0" y="548496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Diabetes meli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0" y="578952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Chronic kidney 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609444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Prevention of stro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12408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400" spc="-1" strike="noStrike">
                <a:solidFill>
                  <a:srgbClr val="000000"/>
                </a:solidFill>
                <a:latin typeface="Arial"/>
              </a:rPr>
              <a:t>Thiazid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4419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CE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1"/>
          <p:cNvSpPr/>
          <p:nvPr/>
        </p:nvSpPr>
        <p:spPr>
          <a:xfrm>
            <a:off x="5562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AR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6705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1"/>
          <p:cNvSpPr/>
          <p:nvPr/>
        </p:nvSpPr>
        <p:spPr>
          <a:xfrm>
            <a:off x="7848720" y="426564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CC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335268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335268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35268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itle 1"/>
          <p:cNvSpPr/>
          <p:nvPr/>
        </p:nvSpPr>
        <p:spPr>
          <a:xfrm>
            <a:off x="335268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4648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4648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4648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1"/>
          <p:cNvSpPr/>
          <p:nvPr/>
        </p:nvSpPr>
        <p:spPr>
          <a:xfrm>
            <a:off x="4648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4648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1"/>
          <p:cNvSpPr/>
          <p:nvPr/>
        </p:nvSpPr>
        <p:spPr>
          <a:xfrm>
            <a:off x="4648320" y="61707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1"/>
          <p:cNvSpPr/>
          <p:nvPr/>
        </p:nvSpPr>
        <p:spPr>
          <a:xfrm>
            <a:off x="5791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5791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791320" y="58658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1"/>
          <p:cNvSpPr/>
          <p:nvPr/>
        </p:nvSpPr>
        <p:spPr>
          <a:xfrm>
            <a:off x="6934320" y="4646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6934320" y="495144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6934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itle 1"/>
          <p:cNvSpPr/>
          <p:nvPr/>
        </p:nvSpPr>
        <p:spPr>
          <a:xfrm>
            <a:off x="6934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8077320" y="525636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8077320" y="55609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55"/>
          <p:cNvSpPr/>
          <p:nvPr/>
        </p:nvSpPr>
        <p:spPr>
          <a:xfrm>
            <a:off x="76320" y="45687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56"/>
          <p:cNvSpPr/>
          <p:nvPr/>
        </p:nvSpPr>
        <p:spPr>
          <a:xfrm>
            <a:off x="76320" y="48736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7"/>
          <p:cNvSpPr/>
          <p:nvPr/>
        </p:nvSpPr>
        <p:spPr>
          <a:xfrm>
            <a:off x="76320" y="51786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58"/>
          <p:cNvSpPr/>
          <p:nvPr/>
        </p:nvSpPr>
        <p:spPr>
          <a:xfrm>
            <a:off x="76320" y="5483160"/>
            <a:ext cx="899136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59"/>
          <p:cNvSpPr/>
          <p:nvPr/>
        </p:nvSpPr>
        <p:spPr>
          <a:xfrm>
            <a:off x="76320" y="57880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60"/>
          <p:cNvSpPr/>
          <p:nvPr/>
        </p:nvSpPr>
        <p:spPr>
          <a:xfrm>
            <a:off x="76320" y="60930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1"/>
          <p:cNvSpPr/>
          <p:nvPr/>
        </p:nvSpPr>
        <p:spPr>
          <a:xfrm>
            <a:off x="76320" y="63993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62"/>
          <p:cNvSpPr/>
          <p:nvPr/>
        </p:nvSpPr>
        <p:spPr>
          <a:xfrm>
            <a:off x="76320" y="304488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63"/>
          <p:cNvSpPr/>
          <p:nvPr/>
        </p:nvSpPr>
        <p:spPr>
          <a:xfrm>
            <a:off x="76320" y="274176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64"/>
          <p:cNvSpPr/>
          <p:nvPr/>
        </p:nvSpPr>
        <p:spPr>
          <a:xfrm>
            <a:off x="76320" y="2435400"/>
            <a:ext cx="899136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3" descr="S1A3D24"/>
          <p:cNvPicPr/>
          <p:nvPr/>
        </p:nvPicPr>
        <p:blipFill>
          <a:blip r:embed="rId1"/>
          <a:stretch/>
        </p:blipFill>
        <p:spPr>
          <a:xfrm>
            <a:off x="304920" y="1295280"/>
            <a:ext cx="8501040" cy="53341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153280" cy="685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Antihypertensive medicaments a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457200" y="2286000"/>
            <a:ext cx="8153280" cy="609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randomized, double-blind, placebo-controlled, parallel-group, dose-adjuste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762120" y="2971800"/>
            <a:ext cx="37335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Sy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itle 1"/>
          <p:cNvSpPr/>
          <p:nvPr/>
        </p:nvSpPr>
        <p:spPr>
          <a:xfrm>
            <a:off x="4724280" y="2971800"/>
            <a:ext cx="373392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Diastolic blood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2"/>
          <p:cNvSpPr/>
          <p:nvPr/>
        </p:nvSpPr>
        <p:spPr>
          <a:xfrm>
            <a:off x="5137200" y="2913120"/>
            <a:ext cx="9360" cy="17280"/>
          </a:xfrm>
          <a:custGeom>
            <a:avLst/>
            <a:gdLst>
              <a:gd name="textAreaLeft" fmla="*/ 0 w 9360"/>
              <a:gd name="textAreaRight" fmla="*/ 9720 w 936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6607080" y="2913120"/>
            <a:ext cx="7920" cy="17280"/>
          </a:xfrm>
          <a:custGeom>
            <a:avLst/>
            <a:gdLst>
              <a:gd name="textAreaLeft" fmla="*/ 0 w 7920"/>
              <a:gd name="textAreaRight" fmla="*/ 8280 w 7920"/>
              <a:gd name="textAreaTop" fmla="*/ 0 h 17280"/>
              <a:gd name="textAreaBottom" fmla="*/ 17280 h 17280"/>
            </a:gdLst>
            <a:ahLst/>
            <a:rect l="textAreaLeft" t="textAreaTop" r="textAreaRight" b="textAreaBottom"/>
            <a:pathLst>
              <a:path w="6" h="11">
                <a:moveTo>
                  <a:pt x="0" y="6"/>
                </a:moveTo>
                <a:lnTo>
                  <a:pt x="0" y="11"/>
                </a:lnTo>
                <a:lnTo>
                  <a:pt x="6" y="11"/>
                </a:lnTo>
                <a:lnTo>
                  <a:pt x="6" y="6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5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442040" y="4167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~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5160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7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4377240" y="2489040"/>
            <a:ext cx="53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AB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725652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2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578916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266640" y="51562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3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90440" y="4710240"/>
            <a:ext cx="1551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verage number</a:t>
            </a: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of medicament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727956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581112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3288600" y="4167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128960" y="420048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Achieved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6956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5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548964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80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D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2965680" y="3132000"/>
            <a:ext cx="83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&lt; 92 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SBP</a:t>
            </a: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271160" y="3286080"/>
            <a:ext cx="91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Target 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7016400" y="248904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KP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5726520" y="2489040"/>
            <a:ext cx="41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"/>
          <p:cNvSpPr/>
          <p:nvPr/>
        </p:nvSpPr>
        <p:spPr>
          <a:xfrm>
            <a:off x="3117600" y="2489040"/>
            <a:ext cx="61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MD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022400" y="389268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>
            <a:off x="1022400" y="283860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1022400" y="4695840"/>
            <a:ext cx="7053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6"/>
          <p:cNvSpPr/>
          <p:nvPr/>
        </p:nvSpPr>
        <p:spPr>
          <a:xfrm>
            <a:off x="264168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7"/>
          <p:cNvSpPr/>
          <p:nvPr/>
        </p:nvSpPr>
        <p:spPr>
          <a:xfrm>
            <a:off x="410544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>
            <a:off x="5222880" y="2406600"/>
            <a:ext cx="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6597720" y="2406600"/>
            <a:ext cx="1440" cy="345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>
            <a:off x="8075520" y="2406600"/>
            <a:ext cx="1800" cy="345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>
            <a:off x="1022400" y="5870520"/>
            <a:ext cx="7053120" cy="1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1022400" y="2846520"/>
            <a:ext cx="1440" cy="301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3"/>
          <p:cNvSpPr/>
          <p:nvPr/>
        </p:nvSpPr>
        <p:spPr>
          <a:xfrm>
            <a:off x="1127160" y="5924520"/>
            <a:ext cx="695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300" spc="-1" strike="noStrike">
                <a:solidFill>
                  <a:srgbClr val="c00000"/>
                </a:solidFill>
                <a:latin typeface="Calibri"/>
              </a:rPr>
              <a:t>*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A target </a:t>
            </a:r>
            <a:r>
              <a:rPr b="1" lang="sr-Latn-RS" sz="1300" spc="-1" strike="noStrike">
                <a:solidFill>
                  <a:srgbClr val="c00000"/>
                </a:solidFill>
                <a:latin typeface="Calibri"/>
              </a:rPr>
              <a:t>blood</a:t>
            </a:r>
            <a:r>
              <a:rPr b="1" lang="en-US" sz="1300" spc="-1" strike="noStrike">
                <a:solidFill>
                  <a:srgbClr val="c00000"/>
                </a:solidFill>
                <a:latin typeface="Calibri"/>
              </a:rPr>
              <a:t> pressure (BP) of &lt;92 mmHg was indicated in the MDRD study for patients with    average systolic/diastolic BP of 125/75 mmH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4"/>
          <p:cNvSpPr/>
          <p:nvPr/>
        </p:nvSpPr>
        <p:spPr>
          <a:xfrm>
            <a:off x="838080" y="1523880"/>
            <a:ext cx="7909200" cy="685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verage number of antihypertensive 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used</a:t>
            </a:r>
            <a:r>
              <a:rPr b="0" lang="sr-Latn-R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to achieve blood pressure targe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5"/>
          <p:cNvSpPr/>
          <p:nvPr/>
        </p:nvSpPr>
        <p:spPr>
          <a:xfrm rot="16200000">
            <a:off x="6068160" y="3570840"/>
            <a:ext cx="5149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Lazarus JM et al. Hypertension 1997; 29(2): 641-6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Estacio RO et al. N Engl J Med 1998; 338(10): 645-6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Hansson L et al. Lancet 1998; 351(9118): 1755-176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alibri"/>
              </a:rPr>
              <a:t>UK Prospective Diabetes Study Group. BMJ 1998; 317(7160): 703-7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112680" y="6411960"/>
            <a:ext cx="3917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MDRD = Modification of Diet in Renal Dise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BCD = Appropriate Blood Pressure Control in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4880160" y="6411960"/>
            <a:ext cx="296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HOT = Hypertension Optimal Treatment 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UKPDS = UK Prospective Diabete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8"/>
          <p:cNvSpPr/>
          <p:nvPr/>
        </p:nvSpPr>
        <p:spPr>
          <a:xfrm>
            <a:off x="2643120" y="2406600"/>
            <a:ext cx="543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104760" y="838080"/>
            <a:ext cx="85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it is necessary to make an adequate choice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1062000"/>
            <a:ext cx="784872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tment o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hypertension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herapy-combined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57200" y="2165400"/>
            <a:ext cx="84582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200400" y="2971800"/>
            <a:ext cx="228600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cfaf"/>
                </a:solidFill>
                <a:latin typeface="Arial"/>
              </a:rPr>
              <a:t>Mon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6"/>
          <p:cNvSpPr/>
          <p:nvPr/>
        </p:nvSpPr>
        <p:spPr>
          <a:xfrm>
            <a:off x="4038480" y="3581280"/>
            <a:ext cx="648000" cy="7621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2209680" y="4343400"/>
            <a:ext cx="5334120" cy="155412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Newly diagnosed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Arterial hypertension stage 1 and low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High-normal values of blood pressure but high cardiovascular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70c0"/>
                </a:solidFill>
                <a:latin typeface="Arial"/>
              </a:rPr>
              <a:t>Very old patients (&gt;80 years o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rcRect l="1095" t="30927" r="85034" b="46001"/>
          <a:stretch/>
        </p:blipFill>
        <p:spPr>
          <a:xfrm>
            <a:off x="1600200" y="3330720"/>
            <a:ext cx="9288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arterial hypertension </a:t>
            </a:r>
            <a:br>
              <a:rPr sz="2800"/>
            </a:br>
            <a:r>
              <a:rPr b="1" lang="sr-Latn-RS" sz="2000" spc="-1" strike="noStrike">
                <a:solidFill>
                  <a:srgbClr val="0070c0"/>
                </a:solidFill>
                <a:latin typeface="Arial"/>
              </a:rPr>
              <a:t>ESC / ESH 2023 guidelines for treatment of arterial hypertens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219320" y="2514600"/>
            <a:ext cx="586728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tients for whom monotherapy is not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own Arrow 4"/>
          <p:cNvSpPr/>
          <p:nvPr/>
        </p:nvSpPr>
        <p:spPr>
          <a:xfrm>
            <a:off x="3809880" y="3048120"/>
            <a:ext cx="838440" cy="91440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790640" y="4419720"/>
            <a:ext cx="4876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bined therapy (permanent if possi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rcRect l="17445" t="43374" r="69101" b="31927"/>
          <a:stretch/>
        </p:blipFill>
        <p:spPr>
          <a:xfrm>
            <a:off x="609480" y="4000680"/>
            <a:ext cx="8715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ontent Placeholder 2"/>
          <p:cNvSpPr/>
          <p:nvPr/>
        </p:nvSpPr>
        <p:spPr>
          <a:xfrm>
            <a:off x="1066680" y="2009880"/>
            <a:ext cx="7010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should be defined by the level of blood pressure above which testing and treatment do more good than harm”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mley Evans J, Rose G. Br Med Bu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;27:37–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D:\Srdjan\Goran\Predavanja\PPT\Slicice za ppt\slike 1\blood-pressure.jpg"/>
          <p:cNvPicPr/>
          <p:nvPr/>
        </p:nvPicPr>
        <p:blipFill>
          <a:blip r:embed="rId1"/>
          <a:stretch/>
        </p:blipFill>
        <p:spPr>
          <a:xfrm>
            <a:off x="3429000" y="4267080"/>
            <a:ext cx="25146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4"/>
          <p:cNvSpPr/>
          <p:nvPr/>
        </p:nvSpPr>
        <p:spPr>
          <a:xfrm>
            <a:off x="2971800" y="3746520"/>
            <a:ext cx="157176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7034040" y="3746520"/>
            <a:ext cx="150048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6234120" y="5235840"/>
            <a:ext cx="71424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7591320" y="5235840"/>
            <a:ext cx="7146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2409840" y="6100200"/>
            <a:ext cx="642924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 an alpha blocker or spironolactone or another diur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6320" y="6100200"/>
            <a:ext cx="1800000" cy="70380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Stage 4.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3381480" y="525960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0"/>
          <p:cNvSpPr/>
          <p:nvPr/>
        </p:nvSpPr>
        <p:spPr>
          <a:xfrm>
            <a:off x="3695760" y="4508640"/>
            <a:ext cx="157140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A or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3"/>
          <p:cNvSpPr/>
          <p:nvPr/>
        </p:nvSpPr>
        <p:spPr>
          <a:xfrm>
            <a:off x="6195960" y="4508640"/>
            <a:ext cx="1500120" cy="52056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C 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76320" y="531612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e78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600"/>
                </a:solidFill>
                <a:latin typeface="Arial"/>
              </a:rPr>
              <a:t>Stag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2"/>
          <p:cNvSpPr/>
          <p:nvPr/>
        </p:nvSpPr>
        <p:spPr>
          <a:xfrm>
            <a:off x="76320" y="4554000"/>
            <a:ext cx="180000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St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2"/>
          <p:cNvSpPr/>
          <p:nvPr/>
        </p:nvSpPr>
        <p:spPr>
          <a:xfrm>
            <a:off x="76320" y="3841200"/>
            <a:ext cx="1800000" cy="398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7010280" y="527076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5562720" y="526104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9"/>
          <p:cNvSpPr/>
          <p:nvPr/>
        </p:nvSpPr>
        <p:spPr>
          <a:xfrm>
            <a:off x="5562720" y="4499280"/>
            <a:ext cx="457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2"/>
          <p:cNvSpPr/>
          <p:nvPr/>
        </p:nvSpPr>
        <p:spPr>
          <a:xfrm>
            <a:off x="2409840" y="2877840"/>
            <a:ext cx="29242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Young  patients (&l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6019920" y="2877840"/>
            <a:ext cx="2895480" cy="398880"/>
          </a:xfrm>
          <a:prstGeom prst="rect">
            <a:avLst/>
          </a:prstGeom>
          <a:solidFill>
            <a:srgbClr val="00206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Older patients (&gt; 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2"/>
          <p:cNvSpPr/>
          <p:nvPr/>
        </p:nvSpPr>
        <p:spPr>
          <a:xfrm>
            <a:off x="76320" y="2132640"/>
            <a:ext cx="1828800" cy="1448640"/>
          </a:xfrm>
          <a:prstGeom prst="rect">
            <a:avLst/>
          </a:prstGeom>
          <a:solidFill>
            <a:srgbClr val="00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А=АСЕI/AR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B=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C=C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00"/>
                </a:solidFill>
                <a:latin typeface="Arial"/>
              </a:rPr>
              <a:t>D=diur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4267080" y="2211120"/>
            <a:ext cx="2743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he АBCD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6400" y="1117440"/>
            <a:ext cx="833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mendations for combined treatment of </a:t>
            </a: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2"/>
          <p:cNvSpPr/>
          <p:nvPr/>
        </p:nvSpPr>
        <p:spPr>
          <a:xfrm>
            <a:off x="633240" y="183276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BHS N.J Human Hypertension, 2004.; National Guideline for Arterial Hypertension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34"/>
          <p:cNvSpPr/>
          <p:nvPr/>
        </p:nvSpPr>
        <p:spPr>
          <a:xfrm rot="1869000">
            <a:off x="4484160" y="4165560"/>
            <a:ext cx="838440" cy="19044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ight Arrow 35"/>
          <p:cNvSpPr/>
          <p:nvPr/>
        </p:nvSpPr>
        <p:spPr>
          <a:xfrm rot="8924400">
            <a:off x="6237000" y="4165200"/>
            <a:ext cx="838080" cy="1904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ight Arrow 36"/>
          <p:cNvSpPr/>
          <p:nvPr/>
        </p:nvSpPr>
        <p:spPr>
          <a:xfrm rot="5400000">
            <a:off x="5607720" y="505980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ight Arrow 37"/>
          <p:cNvSpPr/>
          <p:nvPr/>
        </p:nvSpPr>
        <p:spPr>
          <a:xfrm rot="5400000">
            <a:off x="5607720" y="5790240"/>
            <a:ext cx="336600" cy="122400"/>
          </a:xfrm>
          <a:prstGeom prst="rightArrow">
            <a:avLst>
              <a:gd name="adj1" fmla="val 50000"/>
              <a:gd name="adj2" fmla="val 4994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Isosceles Triangle 38"/>
          <p:cNvSpPr/>
          <p:nvPr/>
        </p:nvSpPr>
        <p:spPr>
          <a:xfrm rot="10800000">
            <a:off x="351324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Isosceles Triangle 39"/>
          <p:cNvSpPr/>
          <p:nvPr/>
        </p:nvSpPr>
        <p:spPr>
          <a:xfrm rot="10800000">
            <a:off x="7467480" y="3276720"/>
            <a:ext cx="44928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trategy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bined therap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Content Placeholder 2" descr=""/>
          <p:cNvPicPr/>
          <p:nvPr/>
        </p:nvPicPr>
        <p:blipFill>
          <a:blip r:embed="rId1"/>
          <a:stretch/>
        </p:blipFill>
        <p:spPr>
          <a:xfrm>
            <a:off x="523800" y="2209680"/>
            <a:ext cx="8518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inciple of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implementation of non-pharmacological and pharmacological treat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52280" y="1828800"/>
          <a:ext cx="8915400" cy="4297320"/>
        </p:xfrm>
        <a:graphic>
          <a:graphicData uri="http://schemas.openxmlformats.org/drawingml/2006/table">
            <a:tbl>
              <a:tblPr/>
              <a:tblGrid>
                <a:gridCol w="2133720"/>
                <a:gridCol w="3505320"/>
                <a:gridCol w="32763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 of systolic blood pres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b03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pting the Dietary Approach to Stop Hypertension (DASH): a diet rich in fiber, fruits and vegetables and a lower intake of salt and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4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ght reduction of at least 4 kilograms or maintenance of BMI between 20-29 kg/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20 mmHg </a:t>
                      </a:r>
                      <a:r>
                        <a:rPr b="1" lang="sr-Latn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ing on body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exerci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 minutes of dynamic exercise of moderate intensity 4-7 days a week in addition to daily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9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ed sodium in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ing total sodium intake to less than 2 grams per 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8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d1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 alcoho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2 standard drinks per day or less than 14 per week for men and 9 per week for wo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mm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b481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0" y="10666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style changes and the effect on blood pressure(DO NOT MEMORIZE THE VALUES FROM THE TABLE 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festyle changes vs medical treatment of arterial hypert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Violeta\Documents\IMG_8031.jpg"/>
          <p:cNvPicPr/>
          <p:nvPr/>
        </p:nvPicPr>
        <p:blipFill>
          <a:blip r:embed="rId1"/>
          <a:stretch/>
        </p:blipFill>
        <p:spPr>
          <a:xfrm>
            <a:off x="533520" y="2362320"/>
            <a:ext cx="815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only way to preserve your health is to eat what you don't want, drink what you don't like and do what you don't like (Mark Twain)</a:t>
            </a:r>
            <a:br>
              <a:rPr sz="2000"/>
            </a:br>
            <a:r>
              <a:rPr b="1" lang="sr-Latn-C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fe style mod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0" y="2895480"/>
            <a:ext cx="388764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3"/>
          <a:stretch/>
        </p:blipFill>
        <p:spPr>
          <a:xfrm>
            <a:off x="0" y="5029200"/>
            <a:ext cx="4397400" cy="1828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"/>
          <p:cNvPicPr/>
          <p:nvPr/>
        </p:nvPicPr>
        <p:blipFill>
          <a:blip r:embed="rId4"/>
          <a:stretch/>
        </p:blipFill>
        <p:spPr>
          <a:xfrm>
            <a:off x="4419720" y="5029200"/>
            <a:ext cx="4724280" cy="1828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9" descr=""/>
          <p:cNvPicPr/>
          <p:nvPr/>
        </p:nvPicPr>
        <p:blipFill>
          <a:blip r:embed="rId5"/>
          <a:stretch/>
        </p:blipFill>
        <p:spPr>
          <a:xfrm>
            <a:off x="6477120" y="297180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240" y="106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pharmacological treatment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artery st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ervation of renal blood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121392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 hypertension 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massive non-contagious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0"/>
            <a:ext cx="8229600" cy="2971800"/>
          </a:xfrm>
          <a:prstGeom prst="rect">
            <a:avLst/>
          </a:prstGeom>
          <a:solidFill>
            <a:srgbClr val="ffe4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5 million people with dyslipi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illion people with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7.7 million with metabolic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 million with diagnosed + 8 million with undiagnosed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90920" y="5791320"/>
            <a:ext cx="419076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1 person dies every 33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3581280" y="6400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. Heart Diseases and Stroke Statistics – 2003 Up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merican heart Association; 2002. Molidad Ah, et al. JAMA 2003; 289: 76-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533520" y="3429000"/>
            <a:ext cx="51829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Straight Arrow Connector 90"/>
          <p:cNvCxnSpPr/>
          <p:nvPr/>
        </p:nvCxnSpPr>
        <p:spPr>
          <a:xfrm flipH="1">
            <a:off x="4571640" y="5257800"/>
            <a:ext cx="2160" cy="53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r control of hypertension in primary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05360" cy="3352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2286000" y="1981080"/>
            <a:ext cx="4572000" cy="457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HIDRA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828800" y="5715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5105520" y="5715000"/>
            <a:ext cx="2590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 rot="16200000">
            <a:off x="-1028520" y="377136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centage</a:t>
            </a:r>
            <a:r>
              <a:rPr b="1" lang="sr-Latn-RS" sz="16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diagnosed, treated and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14300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iagnosed + treated + contro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5715000" y="655308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harma, et al. J Hypertension 2004; 22: 479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914400" y="609588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914400" y="6248520"/>
            <a:ext cx="15228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914400" y="6400800"/>
            <a:ext cx="152280" cy="15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864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95160"/>
            <a:ext cx="8534160" cy="538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or BP control and early morning risk</a:t>
            </a:r>
            <a:br>
              <a:rPr sz="2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or follow-up control of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patients with controlled clinical </a:t>
            </a:r>
            <a:r>
              <a:rPr b="0" lang="sr-Latn-R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21932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ambulatory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5257800" y="2743200"/>
            <a:ext cx="28954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hospital monitoring of 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3581280" y="5486400"/>
            <a:ext cx="28958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uncontro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3581280" y="5715000"/>
            <a:ext cx="358164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BP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&lt; 135/85 </a:t>
            </a:r>
            <a:r>
              <a:rPr b="0" lang="sr-Latn-CS" sz="1400" spc="-1" strike="noStrike">
                <a:solidFill>
                  <a:srgbClr val="ffff00"/>
                </a:solidFill>
                <a:latin typeface="Arial"/>
              </a:rPr>
              <a:t>mmH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68580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743200" y="3505320"/>
            <a:ext cx="1219320" cy="685800"/>
          </a:xfrm>
          <a:prstGeom prst="rect">
            <a:avLst/>
          </a:prstGeom>
          <a:solidFill>
            <a:srgbClr val="9f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8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5410080" y="411480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1371600" y="4191120"/>
            <a:ext cx="1447920" cy="609480"/>
          </a:xfrm>
          <a:prstGeom prst="rect">
            <a:avLst/>
          </a:prstGeom>
          <a:solidFill>
            <a:srgbClr val="ff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Uncontrolled monitoring of B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Srdjan\Desktop\Picture1.jpg"/>
          <p:cNvPicPr/>
          <p:nvPr/>
        </p:nvPicPr>
        <p:blipFill>
          <a:blip r:embed="rId1"/>
          <a:stretch/>
        </p:blipFill>
        <p:spPr>
          <a:xfrm>
            <a:off x="6858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rdjan\Desktop\Picture1 - Copy.jpg"/>
          <p:cNvPicPr/>
          <p:nvPr/>
        </p:nvPicPr>
        <p:blipFill>
          <a:blip r:embed="rId2"/>
          <a:stretch/>
        </p:blipFill>
        <p:spPr>
          <a:xfrm>
            <a:off x="5105520" y="2514600"/>
            <a:ext cx="3733560" cy="277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orical data on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914400" y="2057400"/>
            <a:ext cx="3124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Hypertension increas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4120" y="20574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Treatment of hypertension reduces morbidity and mort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1295280" y="525780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8120" y="52578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1"/>
          <p:cNvSpPr/>
          <p:nvPr/>
        </p:nvSpPr>
        <p:spPr>
          <a:xfrm rot="16200000">
            <a:off x="-1143000" y="3580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D incidence rate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 peopl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 rot="16200000">
            <a:off x="3238560" y="369576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mulative rate of fatal and non-fat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867280" y="525780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7370640" y="5257800"/>
            <a:ext cx="1295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Activ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295280" y="5905440"/>
            <a:ext cx="2546640" cy="49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4"/>
          <a:stretch/>
        </p:blipFill>
        <p:spPr>
          <a:xfrm>
            <a:off x="5915160" y="5880240"/>
            <a:ext cx="2390760" cy="52056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2819520" y="25909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normo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2819520" y="2819520"/>
            <a:ext cx="1447560" cy="228600"/>
          </a:xfrm>
          <a:prstGeom prst="rect">
            <a:avLst/>
          </a:prstGeom>
          <a:solidFill>
            <a:srgbClr val="005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2590920" y="25909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2590920" y="2819520"/>
            <a:ext cx="228600" cy="22860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za Violetu 7"/>
          <p:cNvPicPr/>
          <p:nvPr/>
        </p:nvPicPr>
        <p:blipFill>
          <a:blip r:embed="rId1"/>
          <a:stretch/>
        </p:blipFill>
        <p:spPr>
          <a:xfrm>
            <a:off x="228600" y="1219320"/>
            <a:ext cx="8534520" cy="5364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7543800" cy="9907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lowest degree of blood pressure control in the group with the highest risk: 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4038480" y="5410080"/>
            <a:ext cx="2895840" cy="304920"/>
          </a:xfrm>
          <a:prstGeom prst="rect">
            <a:avLst/>
          </a:prstGeom>
          <a:solidFill>
            <a:srgbClr val="e78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400" spc="-1" strike="noStrike">
                <a:solidFill>
                  <a:srgbClr val="ffff00"/>
                </a:solidFill>
                <a:latin typeface="Arial"/>
              </a:rPr>
              <a:t>Controlled blood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395280" y="0"/>
            <a:ext cx="8424720" cy="63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3 of patients do not take some or all of the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half of patients with chronic diseases do not adhere to the prescribed therapy and lifestyle change recommend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percent of all hospitalizations are the result of improperly taking prescribed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England Journal of Medic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99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" descr="attach_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539640" y="1052640"/>
            <a:ext cx="3961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2 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of hypertensive patients are known to heal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receiv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½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achieve adequ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3924360" y="1622160"/>
            <a:ext cx="4379760" cy="168444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ule of ha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24360" y="5609880"/>
            <a:ext cx="2131920" cy="6498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1357200" y="228132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357200" y="368460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1332000" y="5367240"/>
            <a:ext cx="6858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2286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much do we know about arterial hyperten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1920" y="2440080"/>
            <a:ext cx="861084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beginning of the 21st century, current definition and classification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eatmen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 for diagnostic and therapeutic procedures of ESH, ESC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2007 (last revised recommendations in 201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Srdjan\Desktop\images.jpg"/>
          <p:cNvPicPr/>
          <p:nvPr/>
        </p:nvPicPr>
        <p:blipFill>
          <a:blip r:embed="rId1"/>
          <a:stretch/>
        </p:blipFill>
        <p:spPr>
          <a:xfrm>
            <a:off x="5867280" y="4724280"/>
            <a:ext cx="281952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of arterial 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33920" y="2133720"/>
            <a:ext cx="5410080" cy="33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elevated values of arterial blood pressure abov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0/90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H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d by the auscultation method, in persons older than 20 years (ESC, EHS, A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„Clinical syndrome"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3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a"/>
          <p:cNvPicPr/>
          <p:nvPr/>
        </p:nvPicPr>
        <p:blipFill>
          <a:blip r:embed="rId1"/>
          <a:stretch/>
        </p:blipFill>
        <p:spPr>
          <a:xfrm>
            <a:off x="228600" y="1981080"/>
            <a:ext cx="342900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42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ement of arterial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cultation of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otkoff 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bulatory blood pressure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Srdjan\Goran\Predavanja\PPT\Slicice za ppt\animations\blood pressure machib ha.gif"/>
          <p:cNvPicPr/>
          <p:nvPr/>
        </p:nvPicPr>
        <p:blipFill>
          <a:blip r:embed="rId1"/>
          <a:stretch/>
        </p:blipFill>
        <p:spPr>
          <a:xfrm>
            <a:off x="5715000" y="4630680"/>
            <a:ext cx="2952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values are considered nor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Optimal 120/8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</a:t>
            </a: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Above 140/90 mmH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is arterial hyper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rdjan</dc:creator>
  <dc:description/>
  <dc:language>en-US</dc:language>
  <cp:lastModifiedBy>Violeta</cp:lastModifiedBy>
  <dcterms:modified xsi:type="dcterms:W3CDTF">2023-08-19T17:29:03Z</dcterms:modified>
  <cp:revision>222</cp:revision>
  <dc:subject/>
  <dc:title>Slide 1</dc:title>
</cp:coreProperties>
</file>